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24B-3E72-4556-A87C-F0AAF549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A2F-77EF-431D-9256-759B74F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1CF-C894-4D62-805D-60AE5320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D6B-A531-4D0E-ACC9-079463C0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790-FC26-4266-BE34-A23B0ABC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C009-BB91-4A11-A99C-D02D497E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F2B7-E77D-4E59-9555-480821E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3594-571F-479F-B8F7-A416EE23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356-EC14-4ED5-8F45-C1EE883F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5986-92B5-4990-873A-83D61F53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7963-A81D-4406-9BA5-AE1A9E1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D6D-47C6-4250-9416-14F8D2B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31AC-F9E8-417E-A6D0-7327F70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A78D-CF5E-4D95-BB9E-CB4C7FF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8CA-719E-449C-9AA1-B289987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C828-F359-49A3-B273-DA0725F4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543-C413-49B1-852B-268767AE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34B89-0BB8-4074-97A7-A59C6285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3E576-3CB1-439E-97BA-A7E4312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E69C4-A320-46C3-9536-5F9C823D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81C98-40D7-489A-9131-C7D3B689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0A987-9D32-4432-9CD2-0A999B3C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AFE-B27E-47B7-8A9A-03640AF5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0006D-998E-43A6-B2E7-32B9A443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FDC46-C0A0-43A9-B044-90A98AA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2DE57-DD76-4603-B5E3-3E2EB64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1C58D-A30A-4263-B241-153B2E5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C58D2-923B-485F-A02C-41E49E7A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271D3-E9BF-4A13-87DF-96C17FA2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65E90-3E62-44D1-B0F9-327579D1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7443-70D3-46E9-BCA3-7494D577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1259-D819-47E9-87C6-108ABEE3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0034-8BCB-4022-9CA5-105BCB0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1C5-1B8C-4A4A-ABD0-399ACFD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6ECE-2AFD-4E60-A144-35177410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C926-7D0F-48D6-8C2E-C4A4180F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91A5-F152-438B-BC1A-8EB2C13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54D6-515E-4233-A846-67ED9B4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5B93-59B9-4C5F-BD14-CBA76943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4D80-326C-4028-AEBE-C0D92B9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6E5E-C487-4D92-ACF1-0933F99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FEEF-6570-4770-ABFC-D3F34E29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2C78-2AD9-4870-AE89-9084D7AE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F5AE3-599E-4BE6-9B52-3A9E1D92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FD3-1144-483B-AAA6-0B04E89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6DF74-9ED4-4D67-8554-F0638ED6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D48AD-F379-40BB-B365-F591ACE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E2080-21AD-4DF4-B6DB-8872E37E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C662B-AE53-416B-B36A-0BEE96F5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A44B2-160C-4B32-A9D7-511CF96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83F70-23E3-4CB7-9659-061C0ECD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34912-22FC-4971-80DB-5C6CB562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C0C0B-F54A-4BF5-B089-89B6FC4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F14FD-15FE-4A82-87FA-E4F0700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17E64-D290-46C7-9C75-3FDE518F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36E-5A5B-4728-8ED7-923DC7FE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8AF50-1B7F-421B-819A-7ECDA036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B05FF-1A91-4E5E-BD49-BA337064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F7A2A-0FFA-4484-8FB3-F49B3685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472C4-AF10-4E65-9424-A04AB1AA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1CFDE-7958-4A82-A71E-FBFA7956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43C29-081A-41FE-BC17-929F4627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00382-00F6-4C7C-90FE-2D85FDCD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86673-D9EB-4802-9950-63AB3D0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716D9-44CB-4023-A561-4FF5FC69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3A86F-508E-46D5-BD9B-B99AF4D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896-9B2A-4528-ACD8-D2C39767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7207C-94C0-4772-8E15-3AE84DB2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4AF13-7E61-4013-9417-3B4DD3C3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74A3D-3732-44B3-B9AA-2E622D8D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56473-C645-4C2F-8867-01752A13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4D0DE-C128-45F9-8C65-0055794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41620-0037-4921-9CF7-4C3F5F73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95EE0-0AE1-45FB-9E18-635A81E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3B091-378C-4780-AAFC-BD8FBAC9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86220-59D1-47D5-90DD-A388580F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87DEA-C111-4392-B8FA-00BBC90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2A6-9D5B-46DF-BF7B-EC1E9D2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FB9D8-3140-4B4A-B584-15DDA2A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16618-D41F-476F-B53A-AD1D0486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BDDF0-BA40-4F09-A924-90F1926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6BB29-ADFB-4040-BBCA-B0D232E8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14AA4-FED5-48EB-9D75-1A515E51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684-F6D6-4F07-9222-AD3257B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EA7-1B37-4EAF-81DB-EF857AC08C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69D7-1127-4DF5-9691-BC76B7DC29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253A-DC4B-4CD6-8F87-A97A68574F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B0C-7056-4E2B-996E-7FFFB85D48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386-F5F2-4AE2-83DA-DAEE99ACDA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8C1A-04D4-43B2-9B3F-48673154C1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0E3-2E1A-41B6-9422-7EAB54C0A6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CORE VALUES AND COMPETENCIES FOR GLOBAL EDUCATION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OUR VISION FOR GLOBAL EDUCATION WAS ORGANIZED AROUND THE FF. CORE VALUE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eace and Non-viol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cial justice and Human righ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ic well-being and Equ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ltural integr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logical bala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mocratic particip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ORE SKILLS AND COMPETENCI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f-worth and self-affi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affirmation of oth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ltural and racial differ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fective communication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-violent conflict resolution and med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fective organiz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SOCIO-CULTURAL ISSUE ON GLOBALIZ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ssive migr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naging differ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obal changes in cult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obal changes in culture deeply affect educational policies, practices and institution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eachers and school need to have the flexibility to cope with and make use of the cultural resources that are in their classroom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Coatsworth, 200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Content Placeholder 4" descr="classroom (1).png"/>
          <p:cNvPicPr/>
          <p:nvPr/>
        </p:nvPicPr>
        <p:blipFill>
          <a:blip r:embed="rId1"/>
          <a:stretch/>
        </p:blipFill>
        <p:spPr>
          <a:xfrm>
            <a:off x="457200" y="2436840"/>
            <a:ext cx="3657600" cy="2898720"/>
          </a:xfrm>
          <a:prstGeom prst="rect">
            <a:avLst/>
          </a:prstGeom>
          <a:ln w="0">
            <a:noFill/>
          </a:ln>
        </p:spPr>
      </p:pic>
      <p:pic>
        <p:nvPicPr>
          <p:cNvPr id="362" name="Content Placeholder 5" descr="teacher.gif"/>
          <p:cNvPicPr/>
          <p:nvPr/>
        </p:nvPicPr>
        <p:blipFill>
          <a:blip r:embed="rId2"/>
          <a:stretch/>
        </p:blipFill>
        <p:spPr>
          <a:xfrm>
            <a:off x="4908600" y="2695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CONOMIC ISSUES ON GLOBAL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obalization brings about opportunities for education particularly in the ways that new technologies can be put to work to improve both the quality and quantity of education worldwid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Content Placeholder 4" descr="technology2.jpg"/>
          <p:cNvPicPr/>
          <p:nvPr/>
        </p:nvPicPr>
        <p:blipFill>
          <a:blip r:embed="rId1"/>
          <a:stretch/>
        </p:blipFill>
        <p:spPr>
          <a:xfrm>
            <a:off x="457200" y="2525760"/>
            <a:ext cx="3657600" cy="2720880"/>
          </a:xfrm>
          <a:prstGeom prst="rect">
            <a:avLst/>
          </a:prstGeom>
          <a:ln w="0">
            <a:noFill/>
          </a:ln>
        </p:spPr>
      </p:pic>
      <p:pic>
        <p:nvPicPr>
          <p:cNvPr id="367" name="Content Placeholder 5" descr="technology.jpg"/>
          <p:cNvPicPr/>
          <p:nvPr/>
        </p:nvPicPr>
        <p:blipFill>
          <a:blip r:embed="rId2"/>
          <a:stretch/>
        </p:blipFill>
        <p:spPr>
          <a:xfrm>
            <a:off x="4460760" y="1714680"/>
            <a:ext cx="327672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LITICAL ISSUES ON GLOBAL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ucation creates a capacity to mitigate the disparities in the world today that are potentially very destabilizing, both from an economic and a political point of vie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Bloom, 200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2:58:34Z</dcterms:created>
  <dc:creator>Innovation</dc:creator>
  <dc:description/>
  <dc:language>en-US</dc:language>
  <cp:lastModifiedBy>Innovation</cp:lastModifiedBy>
  <dcterms:modified xsi:type="dcterms:W3CDTF">2012-03-22T14:07:47Z</dcterms:modified>
  <cp:revision>7</cp:revision>
  <dc:subject/>
  <dc:title>CORE VALUES AND COMPETENCIES FOR GLOBAL EDUCATION</dc:title>
</cp:coreProperties>
</file>